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C44-4A7F-4605-8784-4F2909C7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D1A-FAEF-435A-9866-2D2C4885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4FEA2-80D3-4D4F-AD55-08AED2AF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93CF9-819D-4D32-BEAB-F22D4564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D3B7B-EBB7-4B9F-B3B3-3062209C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E9D84-032C-4D00-BE90-60685B67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BF299-2C08-4834-AAFE-1E95F555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C58DB-BA38-4AAC-8E89-06FA5CEB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A419F-C775-4422-85DC-A6643A2E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B50F8-5D32-4214-9B40-FF4556D1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66714-BF5C-4A2E-B140-447EA777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C924C-36BB-4383-B9F2-A604597C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A09-91E3-43F5-B5E0-BD9081B2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6ACE1-8E1A-424A-B2BA-6C278900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86C8F-2406-4E05-B712-8C0E4288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AE6D1-44C4-4953-9A3B-8640D2FC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ADEC2-D291-48C6-A1D7-9C39735B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557A9-B6AB-4881-BBA5-2D337064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FD92C-EF67-4606-A7A2-9B4121BC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AF6D7-2993-47AC-8E85-C9D6B632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11437-69A1-4CFC-B8E4-F0F5E7C7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D741A-1C0A-4EF7-ADFD-4E72F682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295EE-848D-4BD7-8911-6D911A7C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3AF2-8E33-4D1F-84AD-78C2D0BA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9F870-F747-4971-B5DA-208A29C7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79A8-CB35-4FDA-8C8C-B1BE376E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8006-6512-46F3-84D2-62FD02DD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91BB-1E92-45D6-BCC2-210FCBE3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F8A8-FD55-48C1-BD07-C4722C3E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633E-ADDB-4071-A5A6-F3C1DD03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5D37-8EB0-4961-9339-779DB142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9B62-B15A-418C-8890-F8533CDD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AFAD-3BCF-47B0-9CA8-847AB962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1B34-2BB9-4386-9045-B8ACF823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BE11-E6AD-49B1-98A1-25443A4D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24EC-32B8-46C2-9787-ADCFACF1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CEDD-89EA-467A-A14E-5BD53D59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31B7-DDF9-47E5-9C57-B1CAC42E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49EF8-7C36-4995-9610-C8D8B610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1A7C0-E9D5-4C19-A6B9-4DC3E46B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7BA05-080D-4397-BEB7-949A703C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B0D02-3962-487A-9ED2-19F78026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95BF8-CB66-45D1-A842-B075E750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A8E-4927-4EE8-AF52-1433A13E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7A5EC-5B7B-4E17-A3ED-99D28410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B64EC-4D95-42CF-B1B4-F737AA1B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1A9BE-67D6-42A8-8CA8-89C43CB1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A3593-7DE1-4376-BF95-3A8DD137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51E7C-7255-484A-8397-A636F160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DBFDD-5AF9-484E-8B79-A223D8BF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A4A45-C83C-4BFC-BDBA-AD6FC451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C4974-5112-4890-9EDE-9DE32DFC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D126D-1279-4AB6-ACE8-56A56BAB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3384A-066F-4E67-91A0-67E37DF3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191-F4A5-443F-AE8E-A3B6E541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75846-E37E-4EED-A93B-509D88BE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87535-03FE-40F6-AA5B-0A18B347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365E3-CA72-4EB1-8B80-561D7F3B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2AFE0-2BCD-42A7-B119-B41E7198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86ED5-54F8-4400-AF78-FE950697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D3618-7C98-43EE-8602-1EAC5601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8426F-3755-4B11-8A58-4CD0279B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4870C-BA21-445D-B3C8-5AE53EC5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FEB47-7989-409B-B23F-026CA5D3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B0506-CFF9-47ED-BE85-8D4234BC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50D2-D6B8-4240-B3B8-095D2D6F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E2BAD-BECD-428D-AEF6-B8B2D946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39BFA-8BDA-42F7-99E3-8D103EA4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258D7-1B15-46C2-B325-EFEE0BC3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C6C69-0111-4780-9B26-7439363A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23CD5-BE50-48E6-96FA-13BB7250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F1622-971B-4B03-B320-EF635FA3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72103-DB39-49A8-AA04-932673B5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02EEF-4B8D-4F50-A66F-6CC3F5BB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14E95-044A-4AA7-B917-56E8E8DC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F191F-8D14-445C-A2E7-3B73C8D9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5069-D61A-40F5-B9B7-E5506569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B2E49-7703-4076-8495-697C56D4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BA75C-CC03-420E-B829-758F6C75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4571F-CE74-4C3C-B599-6DE5BD0A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5A30F-8CD0-4D25-B9F7-1E27363D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9729A-92B5-4726-8FA5-57BEDA4C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84A97-78C4-4726-9818-6EC38603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0E453-E44F-4072-8DF0-D94D804F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80552-E2BE-4E43-964D-AE4BF529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A4F85-75F4-447D-8C86-9DCA8CB9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28063-FED5-4AA8-86ED-37447107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D5A3-B7BD-4283-AA37-13C1D401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ECE13-A5CB-459C-89AB-434B0985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22B75-3A91-4023-A959-407855D9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20163-F5EE-408F-A187-1115199C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2F284-E75B-450F-BA3D-36856EF7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AC218-7A55-4A13-B03D-81034166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92BDB-0FD7-4D36-A8B3-72C33A28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A6723-9DD5-404F-8597-1A7D289D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28B72-392C-4286-8CA3-97A915A2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DC6C4-8B52-43EA-97D9-E0419387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4A824-95D9-49DD-9806-DFCF488E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D9BC-77DB-4E67-818A-DF1424EB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E6A50-595A-4A5F-B5F8-06840CCB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360A5-875E-4910-BF1F-54FCD1F1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0075E-C819-42A5-92EA-9DCE739F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49B92-601E-467F-8091-AFB26D9C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2D10D-69D1-4704-A77A-B74E5C63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54CD4-E83D-4620-88EF-253A0008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6E2FE-13BE-493B-B961-B51EB513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E9D4A-6356-41BD-A4DD-1527F9C0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F8E54-3B6A-40CC-898F-2CE4513E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1378F-221E-494D-AB87-56B338CA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233-B77D-4A1D-8775-A6CEA15D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698D8-45E7-4BE1-82C0-33A61C1A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890FC-221F-437C-B1AA-F13586E4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B429F-74B0-4C01-8D89-9941DF5E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746D8-1F94-461C-9078-EC8BA42D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0AF2F-5811-4413-8122-090B5D41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B2BBA-6B0A-4632-A6B7-78982D10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0C177-2DA5-4B9A-AEBD-D7D33F2D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7DC13-6237-4BA5-AFD8-E1C0C8BF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BD26D-1341-49E7-8401-D51A2699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9BB22-68A1-4D88-832A-A45697D1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A8F8-AACD-4F63-92B8-01C2457060B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EB99-0885-4296-9A65-D202EB7DF5D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FBF9-D6A8-4303-A657-FEC0D1517C8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B8C5-54DC-4DF1-A017-7D90072FAD2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440D-35BF-4B59-8B50-CBB5A212D99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2EEE-C89D-495C-9E98-F3D6F79D3E1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A522-7AD5-479B-9E1C-E938C49691B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4025-0051-4E84-B999-30F5CD923F2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7C11-587A-4C02-BD44-BD062EC824D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01AD-1349-4027-8CC3-2B9BABFA9C2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2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1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안녕하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_(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주무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시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앉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erminate the following verbs with declarative, interrogative, and imperative e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입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제임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안녕하십니까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하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?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까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제임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안녕히 계십시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히 계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안녕히 가십시오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히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가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  <a:ea typeface="굴림"/>
              </a:rPr>
              <a:t>Study honorific expressions, talking up and down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peaceful, be fine, be w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yes (In the dialogue here, it means ‘I’m fine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히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dverb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계시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olite expression of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있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stay, 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종결어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Terminative Endi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서술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Declar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의문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Interrog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명령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Imper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오십시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으십시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 (Part of ending, honorific suffi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오십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으십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3498840" y="2133720"/>
            <a:ext cx="5400720" cy="28861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2"/>
          <a:stretch/>
        </p:blipFill>
        <p:spPr>
          <a:xfrm>
            <a:off x="233280" y="285840"/>
            <a:ext cx="4343400" cy="2095560"/>
          </a:xfrm>
          <a:prstGeom prst="rect">
            <a:avLst/>
          </a:prstGeom>
          <a:ln w="0">
            <a:noFill/>
          </a:ln>
        </p:spPr>
      </p:pic>
      <p:sp>
        <p:nvSpPr>
          <p:cNvPr id="505" name="직사각형 3"/>
          <p:cNvSpPr/>
          <p:nvPr/>
        </p:nvSpPr>
        <p:spPr>
          <a:xfrm>
            <a:off x="4602240" y="3049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http://classroom.re.kr/uploadfile/content/content02/second04/data03/5_3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3"/>
          <a:stretch/>
        </p:blipFill>
        <p:spPr>
          <a:xfrm>
            <a:off x="3564000" y="5157720"/>
            <a:ext cx="4781520" cy="1533600"/>
          </a:xfrm>
          <a:prstGeom prst="rect">
            <a:avLst/>
          </a:prstGeom>
          <a:ln w="0">
            <a:noFill/>
          </a:ln>
        </p:spPr>
      </p:pic>
      <p:sp>
        <p:nvSpPr>
          <p:cNvPr id="507" name="직사각형 4"/>
          <p:cNvSpPr/>
          <p:nvPr/>
        </p:nvSpPr>
        <p:spPr>
          <a:xfrm>
            <a:off x="262080" y="5924520"/>
            <a:ext cx="315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http://dlegongbuwarac.edupia.com/xmlPrint.aspx?did=20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읽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u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입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ut on, dr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보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배우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lear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만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기다리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a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주무시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leep (h.f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오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om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공부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tud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먹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쓰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rite (bitter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마시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rin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잡수시다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먹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운동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xerci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타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ide, boar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입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주무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u</cp:lastModifiedBy>
  <dcterms:modified xsi:type="dcterms:W3CDTF">2012-09-17T02:02:25Z</dcterms:modified>
  <cp:revision>61</cp:revision>
  <dc:subject/>
  <dc:title>KOREAN LANGUAGE</dc:title>
</cp:coreProperties>
</file>